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3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ED78-FFD1-43D0-ADF9-1FDE51E3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D03-F2EF-4EB1-886E-B6088922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57A-E5F7-48C7-BD45-172DE2C9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2D6-D667-4148-8382-773FC380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01F21-D95F-4F29-BFA8-EDAB32FC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E2F32-0190-4406-B7FA-6048022C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42592-DEC5-490D-9636-73C645B9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3CCC3-1CDB-4981-8BBD-900568B7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A2B8E-8E71-460D-8505-3DABD3A1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5A207-80B2-47E3-B14B-B18BC70D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9E1E1-F94A-4170-8DC4-1DCC29D2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75DF-BBD3-46A3-BC87-7C0F206F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C1365-50BC-47AB-959C-DEF1712C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C4BFC-B626-4ABD-8869-92A145B9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6F933-7E88-4EA9-B31A-C3216CF9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6C61E-3EC4-40A6-A85C-ECCE51EA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13923-52DA-4DEE-AB33-AA34AD76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61F-3523-4922-9294-180DE886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D05-9824-4979-8B27-568262F5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D63-A8A3-48C5-9D60-ED9C8F8B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C524-9FA6-4722-9047-4253DAE6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49C-9C12-4C46-B5B0-C2ADEDED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AC7-3C70-46F3-94B4-62FF016D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5E8-E912-4241-83DC-2FB31089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36F6-D4F3-463C-AD8B-28C0B04919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5304-3A5C-4A2B-8772-A2CFE2CB68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renal.net/tour/venado-caves/images/cave_tour_pic.jpg&amp;imgrefurl=http://www.arenal.net/tour/venado-caves.htm&amp;h=480&amp;w=640&amp;sz=91&amp;hl=en&amp;start=5&amp;um=1&amp;tbnid=LORQu8wJIQSQUM:&amp;tbnh=103&amp;tbnw=137&amp;prev=/images%3Fq%3Dcaves%26um%3D1%26hl%3Den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ba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Justin Yo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400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o you want to know about bats?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ts eat a lot of foo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fish, insects, and lots of  different  kinds of fr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or example a picture of fru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92232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922320" cy="609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807160" y="4038480"/>
            <a:ext cx="3336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Let me tell you about  bat home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live in bushes, caves, and under ca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2438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ere’s some facts  about bats’ birth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baby ba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Happy Birthday!"/>
          <p:cNvPicPr/>
          <p:nvPr/>
        </p:nvPicPr>
        <p:blipFill>
          <a:blip r:embed="rId1"/>
          <a:stretch/>
        </p:blipFill>
        <p:spPr>
          <a:xfrm>
            <a:off x="1752480" y="2666880"/>
            <a:ext cx="6324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y have to  hunt for  their food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t of animals hunt  for food  but  mammals do it  the m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  hope you learned a lot about bats.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7:21:05Z</dcterms:modified>
  <cp:revision>5</cp:revision>
  <dc:subject/>
  <dc:title>Animal Name</dc:title>
</cp:coreProperties>
</file>